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2.jpeg" ContentType="image/jpeg"/>
  <Override PartName="/ppt/media/image6.wmf" ContentType="image/x-wmf"/>
  <Override PartName="/ppt/media/image11.png" ContentType="image/png"/>
  <Override PartName="/ppt/media/image10.wmf" ContentType="image/x-wmf"/>
  <Override PartName="/ppt/media/image7.jpeg" ContentType="image/jpeg"/>
  <Override PartName="/ppt/media/image5.wmf" ContentType="image/x-wmf"/>
  <Override PartName="/ppt/media/image13.jpeg" ContentType="image/jpeg"/>
  <Override PartName="/ppt/media/image22.wmf" ContentType="image/x-wmf"/>
  <Override PartName="/ppt/media/image20.wmf" ContentType="image/x-wmf"/>
  <Override PartName="/ppt/media/image1.jpeg" ContentType="image/jpeg"/>
  <Override PartName="/ppt/media/image4.wmf" ContentType="image/x-wmf"/>
  <Override PartName="/ppt/media/image1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2.jpeg" ContentType="image/jpeg"/>
  <Override PartName="/ppt/media/image3.wmf" ContentType="image/x-wmf"/>
  <Override PartName="/ppt/media/image1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F3AF-C99B-4C34-929E-9044CB74E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836E-4C70-48EB-B127-05668A78B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2DCD-B36E-4F7B-BF00-D520BE634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9374-61AF-4DFD-9760-F51832C6E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377EFB-84A3-4571-93FD-1DB65EFE5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B65D8F-1A04-44E5-9241-C35664CE9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19BA59-A3A2-4E2E-8E0D-5860867D0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62643A-5CB0-427E-A35E-04DCAC89B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7626F2-87FE-40E4-938A-F9B071F1B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3D8126-2EB1-4C14-96D2-35F06173D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784F93-FE57-46D2-B98C-C8951344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8AAA-0267-4D22-96BD-D74D26B08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9A597C-F332-49B2-99DF-B5068B7A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E2E2CC-38B9-44A6-ACFE-74E60112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4C3AE6-D43B-44CD-807C-2014C2BD8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8F07E3-CD9C-40E0-95B3-98385BE43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FD5FA8-1F6D-4758-AEC3-A9905CD52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2A5B-51EC-40BC-A0F1-8BF903EF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AF92-F6ED-491A-B824-9A45C1427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57B9-3351-4C38-9D89-35DB24903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B070-5B4E-4BCB-BF34-824019BEB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D977-52EE-47BD-95AB-D4DAFA2E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44C9-B55B-480E-8B5A-1579FEBE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F780-13B0-41CA-A898-1EE5A2BD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2CFB6-7C1E-4A84-A469-E59D7A7E5D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2CD48-02FE-4CB6-AF2C-166FB27B9C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coolkovers.com/images/customfabric/neon_orange.jpg&amp;imgrefurl=http://www.coolkovers.com/custom.htm&amp;usg=__IbccTV-SA8uWTApb4uCLA6OtPkc=&amp;h=960&amp;w=1280&amp;sz=407&amp;hl=en&amp;start=1&amp;tbnid=VpW9y9FPXMZn1M:&amp;tbnh=113&amp;tbnw=150&amp;prev=/images%3Fq%3Dneon%2Borange%26gbv%3D2%26hl%3Den%26safe%3Dactive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coolkovers.com/images/customfabric/neon_orange.jpg&amp;imgrefurl=http://www.coolkovers.com/custom.htm&amp;usg=__IbccTV-SA8uWTApb4uCLA6OtPkc=&amp;h=960&amp;w=1280&amp;sz=407&amp;hl=en&amp;start=1&amp;tbnid=VpW9y9FPXMZn1M:&amp;tbnh=113&amp;tbnw=150&amp;prev=/images%3Fq%3Dneon%2Borange%26gbv%3D2%26hl%3Den%26safe%3Dactive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coolkovers.com/images/customfabric/neon_orange.jpg&amp;imgrefurl=http://www.coolkovers.com/custom.htm&amp;usg=__IbccTV-SA8uWTApb4uCLA6OtPkc=&amp;h=960&amp;w=1280&amp;sz=407&amp;hl=en&amp;start=1&amp;tbnid=VpW9y9FPXMZn1M:&amp;tbnh=113&amp;tbnw=150&amp;prev=/images%3Fq%3Dneon%2Borange%26gbv%3D2%26hl%3Den%26safe%3Dactive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www.mycivilwar.com/facts/info-medicine.htm#top" TargetMode="External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coolkovers.com/images/customfabric/neon_orange.jpg&amp;imgrefurl=http://www.coolkovers.com/custom.htm&amp;usg=__IbccTV-SA8uWTApb4uCLA6OtPkc=&amp;h=960&amp;w=1280&amp;sz=407&amp;hl=en&amp;start=1&amp;tbnid=VpW9y9FPXMZn1M:&amp;tbnh=113&amp;tbnw=150&amp;prev=/images%3Fq%3Dneon%2Borange%26gbv%3D2%26hl%3Den%26safe%3Dactive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coolkovers.com/images/customfabric/neon_orange.jpg&amp;imgrefurl=http://www.coolkovers.com/custom.htm&amp;usg=__IbccTV-SA8uWTApb4uCLA6OtPkc=&amp;h=960&amp;w=1280&amp;sz=407&amp;hl=en&amp;start=1&amp;tbnid=VpW9y9FPXMZn1M:&amp;tbnh=113&amp;tbnw=150&amp;prev=/images%3Fq%3Dneon%2Borange%26gbv%3D2%26hl%3Den%26safe%3Dactive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coolkovers.com/images/customfabric/neon_orange.jpg&amp;imgrefurl=http://www.coolkovers.com/custom.htm&amp;usg=__IbccTV-SA8uWTApb4uCLA6OtPkc=&amp;h=960&amp;w=1280&amp;sz=407&amp;hl=en&amp;start=1&amp;tbnid=VpW9y9FPXMZn1M:&amp;tbnh=113&amp;tbnw=150&amp;prev=/images%3Fq%3Dneon%2Borange%26gbv%3D2%26hl%3Den%26safe%3Dactive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coolkovers.com/images/customfabric/neon_orange.jpg&amp;imgrefurl=http://www.coolkovers.com/custom.htm&amp;usg=__IbccTV-SA8uWTApb4uCLA6OtPkc=&amp;h=960&amp;w=1280&amp;sz=407&amp;hl=en&amp;start=1&amp;tbnid=VpW9y9FPXMZn1M:&amp;tbnh=113&amp;tbnw=150&amp;prev=/images%3Fq%3Dneon%2Borange%26gbv%3D2%26hl%3Den%26safe%3Dactive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coolkovers.com/images/customfabric/neon_orange.jpg&amp;imgrefurl=http://www.coolkovers.com/custom.htm&amp;usg=__IbccTV-SA8uWTApb4uCLA6OtPkc=&amp;h=960&amp;w=1280&amp;sz=407&amp;hl=en&amp;start=1&amp;tbnid=VpW9y9FPXMZn1M:&amp;tbnh=113&amp;tbnw=150&amp;prev=/images%3Fq%3Dneon%2Borange%26gbv%3D2%26hl%3Den%26safe%3Dactive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coolkovers.com/images/customfabric/neon_orange.jpg&amp;imgrefurl=http://www.coolkovers.com/custom.htm&amp;usg=__IbccTV-SA8uWTApb4uCLA6OtPkc=&amp;h=960&amp;w=1280&amp;sz=407&amp;hl=en&amp;start=1&amp;tbnid=VpW9y9FPXMZn1M:&amp;tbnh=113&amp;tbnw=150&amp;prev=/images%3Fq%3Dneon%2Borange%26gbv%3D2%26hl%3Den%26safe%3Dactive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12.jpeg"/><Relationship Id="rId5" Type="http://schemas.openxmlformats.org/officeDocument/2006/relationships/hyperlink" Target="http://images.google.com/imgres?imgurl=http://www.followingtheequator.com/Travels/VA_NC_2006/Norfolk_VA_2006/Norfolk_Hampton_Roads_2006_067.jpg&amp;imgrefurl=http://www.followingtheequator.com/Travels/VA_NC_2006/Norfolk_VA_2006/index.htm&amp;usg=__NBmEHmtxmPNSbXLLNl-5AVm5vGc=&amp;h=1024&amp;w=768&amp;sz=60&amp;hl=en&amp;start=28&amp;tbnid=55_8qLE5mwUwCM:&amp;tbnh=150&amp;tbnw=113&amp;prev=/images%3Fq%3Dcivil%2Bwar%2Bmedicine%26gbv%3D2%26ndsp%3D20%26hl%3Den%26safe%3Dactive%26sa%3DN%26start%3D20" TargetMode="External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hyperlink" Target="http://www.braceface.com/medical/Bottle_images/Civil_War_tin_medicine_container.JPG" TargetMode="External"/><Relationship Id="rId9" Type="http://schemas.openxmlformats.org/officeDocument/2006/relationships/image" Target="../media/image15.jpeg"/><Relationship Id="rId10" Type="http://schemas.openxmlformats.org/officeDocument/2006/relationships/hyperlink" Target="http://images.google.com/imgres?imgurl=http://www.davidsonsfort.com/images/amputations.jpg&amp;imgrefurl=http://www.davidsonsfort.com/civil_war_battle_photo_gallery.htm&amp;usg=__PQBnqBsiUwAxyoN6rl5d-M22Hes=&amp;h=2448&amp;w=3264&amp;sz=1654&amp;hl=en&amp;start=9&amp;um=1&amp;tbnid=TbepD_x39iXv6M:&amp;tbnh=113&amp;tbnw=150&amp;prev=/images%3Fq%3Dcivil%2Bwar%2Bamputations%26hl%3Den%26safe%3Dactive%26um%3D1" TargetMode="External"/><Relationship Id="rId11" Type="http://schemas.openxmlformats.org/officeDocument/2006/relationships/image" Target="../media/image16.jpeg"/><Relationship Id="rId12" Type="http://schemas.openxmlformats.org/officeDocument/2006/relationships/image" Target="../media/image17.jpeg"/><Relationship Id="rId13" Type="http://schemas.openxmlformats.org/officeDocument/2006/relationships/image" Target="../media/image18.jpeg"/><Relationship Id="rId1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coolkovers.com/images/customfabric/neon_orange.jpg&amp;imgrefurl=http://www.coolkovers.com/custom.htm&amp;usg=__IbccTV-SA8uWTApb4uCLA6OtPkc=&amp;h=960&amp;w=1280&amp;sz=407&amp;hl=en&amp;start=1&amp;tbnid=VpW9y9FPXMZn1M:&amp;tbnh=113&amp;tbnw=150&amp;prev=/images%3Fq%3Dneon%2Borange%26gbv%3D2%26hl%3Den%26safe%3Dactive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coolkovers.com/images/customfabric/neon_orange.jpg&amp;imgrefurl=http://www.coolkovers.com/custom.htm&amp;usg=__IbccTV-SA8uWTApb4uCLA6OtPkc=&amp;h=960&amp;w=1280&amp;sz=407&amp;hl=en&amp;start=1&amp;tbnid=VpW9y9FPXMZn1M:&amp;tbnh=113&amp;tbnw=150&amp;prev=/images%3Fq%3Dneon%2Borange%26gbv%3D2%26hl%3Den%26safe%3Dactive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ff"/>
                </a:solidFill>
                <a:latin typeface="Tahoma"/>
              </a:rPr>
              <a:t>Medical and Surgical procedures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arli            umme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&amp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essica             atch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2286000" y="4038480"/>
            <a:ext cx="884160" cy="9525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4038480" y="4038480"/>
            <a:ext cx="897120" cy="7938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2286000" y="5029200"/>
            <a:ext cx="671400" cy="838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4876920" y="4876920"/>
            <a:ext cx="669960" cy="75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ahoma"/>
              </a:rPr>
              <a:t>Facts about amputation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Three out of four wounds were to the extremities. In the Union Army, this led to 30,000 amputation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Of 11,000 Union physicians, 500 had performed surgery befo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The surgeon would scrape the end and edges of the bone smooth, so that they would not work back through the ski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ff"/>
                </a:solidFill>
                <a:latin typeface="Tahoma"/>
              </a:rPr>
              <a:t>Why it is important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Tahoma"/>
              </a:rPr>
              <a:t>This is important because now we know what kind of medicines and tools that they us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Tahoma"/>
              </a:rPr>
              <a:t>We all need to remember how much the medicine and tools that they used and how much we appreciate how much pain we don’t have to go through like they di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5791320" y="0"/>
            <a:ext cx="31082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7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Work cited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pe you enjoyed our presentation! Thank you and have a nice day!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3300"/>
                </a:solidFill>
                <a:uFillTx/>
                <a:latin typeface="Tahoma"/>
                <a:hlinkClick r:id="rId4"/>
              </a:rPr>
              <a:t>http://www.mycivilwar.com/facts/info-medicine.htm#to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ttp://www.sonofthesouth.net/leefoundation/civil-war-medicine.ht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http://images.google.com/images?hl=en&amp;safe=active&amp;um=1&amp;q=civil+war+amputations&amp;sa=N&amp;start=60&amp;ndsp=2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7620120" y="0"/>
            <a:ext cx="15238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5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5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5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5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5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5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5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5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33"/>
                </a:solidFill>
                <a:latin typeface="Tahoma"/>
              </a:rPr>
              <a:t>What you will learn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You will be learning about the tools that they use to do medical procedur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We will also be talking about how they would perform the step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And also be talking about the different medicines they used to cure peop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7162920" y="4419720"/>
            <a:ext cx="1981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d93ff"/>
                </a:solidFill>
                <a:latin typeface="Tahoma"/>
              </a:rPr>
              <a:t>Myth or Fact?!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In 1861 the sanitary commission report issued a widely disseminated, and included many guidelines to improve sanitation and reduced the disease’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Three out of four wounds were to the extremities. In the Union Army, this led to 10,000 amputation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7391520" y="0"/>
            <a:ext cx="1752480" cy="1908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4724280" y="5029200"/>
            <a:ext cx="1905120" cy="1828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The men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There was twice as many men that had died from diseases than they did from gunsho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It was all measles, small pox, and many more other diseases that they have died fro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The prisoners had it even worse then the civil war who were held in the most miserable of condi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98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98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98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98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The Sanitary Commission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The Sanitary Commission tried to educate the army on proper sanitation techniques to help stop the spread of disease’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In 1861 the sanitary commission report issued a widely disseminated, and included many guidelines to improve sanitation and reduced the disease’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0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98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98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Famous surgeons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Tahoma"/>
              </a:rPr>
              <a:t>Dr. Edward Kitto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Tahoma"/>
              </a:rPr>
              <a:t>Dr. Hartwell Carver Tompki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Tahoma"/>
              </a:rPr>
              <a:t>Dr. Winslow Hom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Tahoma"/>
              </a:rPr>
              <a:t>Dr. John Shaw Billing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6172200" y="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8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2133720" y="685800"/>
            <a:ext cx="4190760" cy="2298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0"/>
            <a:ext cx="2354400" cy="3124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7"/>
          <a:stretch/>
        </p:blipFill>
        <p:spPr>
          <a:xfrm>
            <a:off x="1981080" y="2743200"/>
            <a:ext cx="2638440" cy="41148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See full size image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0" y="2895480"/>
            <a:ext cx="2057400" cy="3048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4419720" y="2971800"/>
            <a:ext cx="3381120" cy="2548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2"/>
          <a:stretch/>
        </p:blipFill>
        <p:spPr>
          <a:xfrm>
            <a:off x="6248520" y="0"/>
            <a:ext cx="2455920" cy="3200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3"/>
          <a:stretch/>
        </p:blipFill>
        <p:spPr>
          <a:xfrm>
            <a:off x="7105680" y="3962520"/>
            <a:ext cx="2038320" cy="28954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Tahoma"/>
              </a:rPr>
              <a:t>Amputation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ahoma"/>
              </a:rPr>
              <a:t>Leg Ampu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- Used a tourniquet, a saw, and a knif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ahoma"/>
              </a:rPr>
              <a:t>Below the knee ampu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- Used a tourniquet, and a saw, and knif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ahoma"/>
              </a:rPr>
              <a:t>Arm Ampu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- Used a tourniquet, a saw, and a knif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ahoma"/>
              </a:rPr>
              <a:t>Finger and toe ampu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- Used a saw, a knife, and plier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3657600" y="609480"/>
            <a:ext cx="5486400" cy="1276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Facts about medicine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ahoma"/>
              </a:rPr>
              <a:t>Civil War medicine was in a time before the doctors even knew much about bacteriology and were ignorant of what caused diseas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ahoma"/>
              </a:rPr>
              <a:t>  </a:t>
            </a:r>
            <a:r>
              <a:rPr b="0" lang="en-US" sz="3200" spc="-1" strike="noStrike">
                <a:solidFill>
                  <a:srgbClr val="ffccff"/>
                </a:solidFill>
                <a:latin typeface="Tahoma"/>
              </a:rPr>
              <a:t>The medicines brought in to try and halt diseases were manufactured in the North for the most part; the Southerners had to deal with running the Union blockade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7367760" y="0"/>
            <a:ext cx="177624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5:52:15Z</dcterms:created>
  <dc:creator>karliamummert</dc:creator>
  <dc:description/>
  <dc:language>en-US</dc:language>
  <cp:lastModifiedBy>karliamummert</cp:lastModifiedBy>
  <dcterms:modified xsi:type="dcterms:W3CDTF">2009-03-23T12:21:51Z</dcterms:modified>
  <cp:revision>12</cp:revision>
  <dc:subject/>
  <dc:title>Medical and Surgical procedures!</dc:title>
</cp:coreProperties>
</file>